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E51A-673D-4FD9-B739-3126697E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B4BB-7788-4E5A-8FB0-C062AD4A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3BC5-2F8B-4954-B36F-31C22E14C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A3C0-92D2-4348-9A54-3BB5A346A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460B-40FE-4CFB-882E-A3B02943B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E26B-D49E-47F1-9E49-5CDCC576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105B-DA7D-48DD-8102-CD8B2321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1102-32D9-45DF-861F-7CE72762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1F0C-FF2A-4B8D-AD5E-E154ACE5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22CA-B31C-4CAA-BE24-0F2D9ED1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5842-9791-4735-AF3D-D28BD767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2FE7-54BB-4A76-B439-13FA9AD8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B6C1-4141-4418-A634-FC7BAB02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4E62-676E-4E9A-A088-23325BB0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BD7F-8C02-4150-A37E-B889BD21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0E8C-A8FF-4265-BA85-555D54B41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E32E-5B6F-427D-8B95-75307495E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3F69-53C2-41E1-BB82-59207BEE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2E9C-0BB6-496E-8B60-66D3FA51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A931-6749-43BF-B3B9-26DE55F6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7061-F9ED-4F0C-AADB-CEA3F3E3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2F79-2D7B-4C10-9556-FD50F9B1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BB95-75D0-4E23-9478-E926C01D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1074-E77F-4BFB-BA34-8E85561E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563E-F4A0-42AA-AF6F-622E3B5180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5CBC-7E12-47B7-88CE-1ACB2F5009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OA- Finish the analogi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90720" y="2895120"/>
            <a:ext cx="7315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red : exhausted :: ______ : fur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on : dismiss :: ______ : 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rrect answ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M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hould go in the first blan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Go : le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reewri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min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 about anything until the buzzer goes off.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Vocabulary practice-match the following vocabulary word with its synonym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tig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l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g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break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plen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seri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b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relie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Vocabulary Practice-write the word that best goes in the blank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Shakespeare has a famous quote, “The evil that men do lives after them, the good is often _______ with their b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 There were _______ circumstances in the murder tr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 It is a ________ when Haley’s Comet co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 You need to ___________ the fact that the dog ate your homew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  He was a ______ art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tig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stanti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Vocabulary Practic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ose five of the words and find an antonym for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The Open Boat-cont. Read from ch. 3 to ch. 5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s to answer as you re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the correspondent say this is the best time of his lif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is the lighthouse described as a “little gray shadow?” What does this show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es the men’s mood change on page 457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3 passages that show Crane’s trademark use of figurative language and imager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 you think we are only told the oiler’s real name? What do you think might happen to him in the en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is the phrase, “Funny they can’t see us” repea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ironic about this line, “he would have tumbled comfortably out upon the ocean as if he felt sure that it was a great, soft mattress?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the people on the shore think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es the mood change on page 460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part does fate seem to play in this part of the stor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03:46:30Z</dcterms:created>
  <dc:creator>Angie</dc:creator>
  <dc:description/>
  <dc:language>en-US</dc:language>
  <cp:lastModifiedBy>Angie</cp:lastModifiedBy>
  <dcterms:modified xsi:type="dcterms:W3CDTF">2009-01-13T05:21:08Z</dcterms:modified>
  <cp:revision>2</cp:revision>
  <dc:subject/>
  <dc:title>DOA- Finish the analogies</dc:title>
</cp:coreProperties>
</file>